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D37-47C2-43E8-8110-BE77473B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5E3-7E39-4435-BB17-C9A36E94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113-B860-478D-A8E5-A24A1CA32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4AE-E5E0-423C-AAB6-58E5CB83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1C3D-C53A-424F-A174-EE55027F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5E5C-1B41-429D-9535-85D7EC6C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9DA7-0AA4-4574-961C-CCC0ACFC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32E5-61DF-48E4-981C-FDD86C63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8470-A608-4D20-9949-D5A46E72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9065-DF2A-4B21-B035-30C9F825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4278-C3A4-47D5-A21E-C4063A3A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E6B-CBBD-4D7E-B976-0A15BD67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E58C-F9D4-4806-868A-19E11A9D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CD74-C575-4D3D-AD15-CFEC4E69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06F3-2398-484D-96DA-6C45D951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7EB9-9CB4-448D-A99C-C5251290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0026-B1B5-496F-9BE8-7DD8EFE6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A42-DD7C-4094-B3AB-E7752EC1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B9D-6AEB-400A-92A4-1020B0C3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165-12DA-40DB-8622-35790573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BC09-2828-48D2-A8F1-B1082CD5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00C-9EBA-44D4-A2DA-F4AEBEAD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EA2-DA1F-4409-B52D-90CF9364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E15-1ED0-428D-82B4-49F352FA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C680-1175-4B22-9013-7AE86DB6F3EB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C668-8F18-478B-9874-734DF15F0A07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99"/>
                </a:solidFill>
                <a:latin typeface="Arial"/>
              </a:rPr>
              <a:t>比和比例习题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除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的商是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，则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A∶B=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（ ）∶（ ）。</a:t>
            </a:r>
            <a:br>
              <a:rPr sz="6600"/>
            </a:br>
            <a:br>
              <a:rPr sz="6600"/>
            </a:b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甲数的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5/8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等于乙数的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5/12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，甲数∶乙数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=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（　　）∶（　　）。 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把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4∶15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的前项加上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2.5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，为了要使所得的比值不变，比的后项应加上（ ）。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两个正方体的棱长比为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1∶3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，这两个正方体的表面积比是（ ）∶（ ），体积比是（ ）∶（ ）。</a:t>
            </a:r>
            <a:br>
              <a:rPr sz="5400"/>
            </a:b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6/5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吨：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350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千克，化简后的比是（ ），比值是（ ）。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把甲班人数的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1/8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调入乙班后两班人数相等，原来甲、乙两班人数比是（ ）。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甲走的路程是乙的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4/5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，乙用的时间是甲的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4/5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，甲、乙速度比是（ ）。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盐完全溶解在水中变成盐水，已知某种盐水中盐和水的重量比是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。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500</a:t>
            </a:r>
            <a:r>
              <a:rPr b="1" lang="zh-CN" sz="5400" spc="-1" strike="noStrike">
                <a:solidFill>
                  <a:srgbClr val="007a77"/>
                </a:solidFill>
                <a:latin typeface="Arial"/>
              </a:rPr>
              <a:t>克盐要加水多少千克？</a:t>
            </a:r>
            <a:br>
              <a:rPr sz="5400"/>
            </a:b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29Z</dcterms:created>
  <dc:creator>lenovo</dc:creator>
  <dc:description/>
  <dc:language>en-US</dc:language>
  <cp:lastModifiedBy>微软用户</cp:lastModifiedBy>
  <dcterms:modified xsi:type="dcterms:W3CDTF">2015-03-10T13:41:23Z</dcterms:modified>
  <cp:revision>5</cp:revision>
  <dc:subject/>
  <dc:title>复习比和比例</dc:title>
</cp:coreProperties>
</file>